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2FC9-EC38-4B69-B8EF-F1E4FE98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ADE8-9C41-4A71-8B2B-6469F94D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CF0-7CDE-49B1-872F-73CE0322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F35F-863F-4A18-AFAE-2D17CC40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691-C0A7-45E4-97CB-6C3B4034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AC9-5E47-414B-819E-4BC5E5C9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808-E7EE-4F26-AC3F-591F436D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3C4-8072-46F2-B22B-F00678E3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930-CB0F-4048-8D08-03780D83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810-C28F-46C5-BC71-B13E35F9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04D-730E-432E-8632-037FF433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359E-D20F-4E49-AE90-FA1D8F44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E3D0-B731-4DC8-8D95-76122B73BE32}" type="datetime">
              <a:rPr b="0" lang="fi-FI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E6B5-52DB-4D76-ACBD-DE3E60216F0C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Fire tests of heating appliances fired by solid fue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Preliminar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PG meeting 12.10.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9025-2B6C-4DF9-878F-DC08D333B7E8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to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lue gas temperature is for energy efficiency, not to determine fireclass of chimn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ere is a need to determine correct flue gas temperature for chimn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 consultant has sent our letter to CEN TC 295 and TC 16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 TC 295 has refused to improve its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What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o withdraw  these standards from the OJ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o allow that Finland can demand an additional test in order to determine the correct flue gas temperature class of chimney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omething el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latunnisteen paikkamerk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ian numeron paikkamerkki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115B-1DFA-48B3-8379-C6C8AE107D90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at to do with chimneys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 TC 166 has started to discus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Deficienci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Higher flue gas temperature class than T 600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Durability of thermal insulation material at high temperature (e.g. 500-600 </a:t>
            </a:r>
            <a:r>
              <a:rPr b="0" lang="fi-FI" sz="1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C) for longer perio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Wall thickness of metal flue liners in CE-mark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Thick thermal insulation in the ro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Temperarure  will much higher than  tests where thermal insulation (200 mm)  is us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How to seal chimneys and how to test sea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In the ro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On the 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Connection between CE-marking and assembly instru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There are national  assembly standards and additional  assembly tests in some Member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Reduction of tes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.g. One chimney type has 14 different mark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Calculation methods should be develo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latunnisteen paikkamerk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ian numeron paikkamerkki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2AF5-BEC7-4EE9-B182-4730CCCE022A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nnish letter to the Commission (25.5.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 lot of fire cases related to fireplaces and chimneys including also products with CE-ma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e have studied EN-standards of chimneys and fire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 lot of deficienc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EN TC 295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Residential solid fuel burning appliances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and CEN TC 166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Chimneys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 do not discussed with each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re are Finnish tests which gave results that EN-standards are not su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nland is the coldest country in the EU. Heating is need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33B4-215B-4A8E-921A-55D1B7ED1931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st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e wanted to give evidences to support our require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inistry of the Environment has ordered the following tests from VTT which is a notified body under the C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low heat release fire appliances according to EN 1525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auna stoves according to EN 158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oomheaters fired by solid fuel according to EN 13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re will be a test report in English before the end of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test program covers aspects related to fireplaces mentioned in our l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7F79-AB36-4499-AAD9-5BB55FB6C9A7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Firs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est product = a commercial slow heat release appliance fired by solid fu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est according to EN 15250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Slow heat release appliances fired by solid fuel:Requirements and test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rstly , normal test= to determine flue gas temperature in CE-marking as required in EN 152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ext test is the safety test but flue gas temperature has also been measured (not required in EN 152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nally an additional heating test (not in EN 152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lue draught (red lin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19CF-EE72-4ECE-818E-60745BF95B4A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latunnisteen paikkamerkki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ian numeron paikkamerkki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3EE7-7A05-413C-980E-6D7E4E1CB056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23840" y="907920"/>
            <a:ext cx="89121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Bypass device is o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st product = the same slow heat release appl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cording to EN 1525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ypass device is o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ypass device is to improve igni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ypas device can be used in summertime avoiding hea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0AB4-086B-45FE-9465-7317432BDFAE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latunnisteen paikkamerkki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ian numeron paikkamerkki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5F52-CD8E-4552-B54E-E25F65190240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476360" y="83664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98360" y="463680"/>
            <a:ext cx="883764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auna sto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st sauna stove = a commercial product on the mar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st according to 158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mperature is 90 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sau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est will be the safety test according to EN 15821 where temperature of flue gas is also measured (not required in EN 1582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91A7-AC61-4263-8B36-ECF493B7AC2D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Kaavio 1" descr=""/>
          <p:cNvPicPr/>
          <p:nvPr/>
        </p:nvPicPr>
        <p:blipFill>
          <a:blip r:embed="rId1"/>
          <a:stretch/>
        </p:blipFill>
        <p:spPr>
          <a:xfrm>
            <a:off x="-36360" y="615960"/>
            <a:ext cx="9223200" cy="5632560"/>
          </a:xfrm>
          <a:prstGeom prst="rect">
            <a:avLst/>
          </a:prstGeom>
          <a:ln w="0">
            <a:noFill/>
          </a:ln>
        </p:spPr>
      </p:pic>
      <p:sp>
        <p:nvSpPr>
          <p:cNvPr id="73" name="Dian numeron paikkamerkki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D4AF-BB90-4BB9-A5B3-5C042FF5298C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latunnisteen paikkamerk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5:23:36Z</dcterms:created>
  <dc:creator>virtanenmat</dc:creator>
  <dc:description/>
  <dc:language>en-US</dc:language>
  <cp:lastModifiedBy>virtanenmat</cp:lastModifiedBy>
  <dcterms:modified xsi:type="dcterms:W3CDTF">2011-10-11T11:05:06Z</dcterms:modified>
  <cp:revision>31</cp:revision>
  <dc:subject/>
  <dc:title>VTT:n tulisijatestejä</dc:title>
</cp:coreProperties>
</file>